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5B35-DB5E-4A4B-9C78-D9FE198EF0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25F-7329-4FA3-A31F-BFD1D03E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007F-5B03-434C-ADEF-DBBA38620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0277-80AD-4AD9-8CC4-52CC042D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B00-0504-4D1D-ADDF-B3B3618A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7CD-10E7-4B48-9868-628B10F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7816-F4E9-4336-A406-24633288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42C-B79D-412B-B0BF-D80708A2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4EB-797A-4424-98D0-A55392BA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3269-BACD-4611-AA49-A3A60019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3FA-DF43-435C-8F0C-CDBC3CF3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9F2-E204-4738-AE83-1F0F94D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1AE-6F2D-44E1-AAA5-2AB4400B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C3A-C2D1-4AB5-851E-D7D702F5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3E41-9C98-4E4D-A99A-BA7A075BA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308A-596E-4355-A628-5F143A5A561B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26DB-0D96-42D9-AE62-99D40E35AD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ave Propa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ace-Wave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wave most widely used mode of antenna communications; limited to line-of-sight transmission distan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agate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 from transmitting to receiving antenna; does not travel along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strike ionosphere, be refracted from it to ground, strike ground, be reflected back toward ionosp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racting and reflecting action of ionosphere and grou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 of long-distance transmis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no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layers designated from lowest level to highest level as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frequency returned to Earth when transmitted vertically under given ionospheric cond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ical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angle wave of specific frequency can be propagated and returned from ionosphe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usable frequency (MUF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est frequency returned to Earth at given dis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um working 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consistent communication and best one to u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p z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signal will be he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ky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the Ionosphere on the Sky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ariations in signal strength that occur at receiver during time signal receiv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onospheric st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 radio communications to become errati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opospheric sc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 aimed at troposphe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Communication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(transmit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biting satell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wnlink (receiv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and downli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rth station (ground bas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Communication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pon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nic system performing reception, frequency translation, retransmiss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itude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rbital corrections on satelli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tpr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mited coverage are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bital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bital patterns of satellites elliptic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gee (closest distance of orbit to Earth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ogee (farthest distance of orbit from Earth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to Electromagnetic Conver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ical energy fed into transmitting antenna must be converted to another form of energy for transmiss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ting antenna converts its input electrical energy into electromagnetic energ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eiving antenna intercepts transmitted wave and converts it back into electrical energy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bital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ostationary orbits use equatorial or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ang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zimuth and elevation angles for Earth station antenna calculated so correct satellite can be see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Positioning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point geographic location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PS satellites transmit position data signals; GPS receiver processes time to receive each 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xing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-division multiple access (F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-division multiple access (T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Station Distance to and from Satelli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from Earth station to satellite; estimate time delay for transmitted signal to travel from Earth to satellite and 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3-2: Earth Satellite Measu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2840" y="308592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3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arth Satellite Measuremen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Picture 5" descr="tab13_02.jpg"/>
          <p:cNvPicPr/>
          <p:nvPr/>
        </p:nvPicPr>
        <p:blipFill>
          <a:blip r:embed="rId1"/>
          <a:stretch/>
        </p:blipFill>
        <p:spPr>
          <a:xfrm>
            <a:off x="228600" y="1960560"/>
            <a:ext cx="86868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arth Station Distance to and from Satellit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 division multiple access (CDM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mall aperture terminal (VSAT) fixed satellite communication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ltrasmall aperture terminal mobile satellite (MSAT) syst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tellite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Rad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.S. two satellite radio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XM and Siriu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M Satellite Radio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geostationary satelli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rius Satellite Radio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ree satellites in inclined orbi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gure of Merit and Satellite Link Budget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gure of merit (G/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 performance measure for different satellite Earth s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rger the figure of merit (G/T), the better the Earth station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link budg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ies required C/N and signal level to satellite receiver will be met to ensure satellite receiver outputs signal that meets specif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igure of Merit and Satellite Link Budget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tellite Link Budget Calc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valuates quality of satellite link signal in terms of C/N; makes sure satellite link meets required C/N specif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d from both uplink budget and downlink budg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e-space path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3000" indent="-221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tenuation of RF signal as it propagates through space and Earth’s atmosphere to and from satelli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fiel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field and magnetic fie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-frequency interference (RF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sired radiation from radio transmi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omagnetic interference (EMI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xwell’s equ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uss’s law for electric fields, Gauss’s law for magnetic fields, Faraday’s law, Ampère-Maxwell la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magnetic Wav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fro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joining all points of equal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tropic point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magnetic wave radiates equally in all directions from point source in free space; spherical wavefront resul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otropic sou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ates equally in all direc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s Not in Free Spa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 waves reflected by any medi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le of incidence equal to angle of refl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r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waves pass from a medium of one density to another medium with a different dens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aves Not in Free Spa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ra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ves traveling in straight paths bend around an obstac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 modes of getting radio wave from transmitting to receiving antenn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y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tellite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Ground- and Space-Wave Propag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ound-Wave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dio wave that travels along Earth’s surface; changes in terrain strong effe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of ground waves directly related to surface impedance of Earth; function of conductivity an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way to communicate into ocean with submari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7:23Z</dcterms:modified>
  <cp:revision>6</cp:revision>
  <dc:subject/>
  <dc:title>Slide 1</dc:title>
</cp:coreProperties>
</file>